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1FA2-156D-4BC7-AACF-F369116BD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3618-9A12-4984-8FAD-5F0A7AEC9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 activities should be based on the child’s age, abilities, strengths/weaknesses, cultural and social background, and personal intere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programs focus on the “whole child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80E8-47C4-46A9-8CAD-6A843F5B4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ilies no longer have a mother as a homemaker and father as a wage ear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Smaller family size = more money to spend on childc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en couples have children later, they are in a better position financially to afford early childhood care progra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121-F325-45E0-AB37-42447157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2C2-26DD-4E87-9308-2500B8EB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FDE-16B5-41E0-9AC8-71FEC6AD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62E-D91A-4565-A64F-569CCA20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951E-021B-4BC6-B810-5B6B919D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9326-C4BD-4CE2-9323-320CAA3C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07EF-8495-4D3F-AE66-8E1898B7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A65E-2BC3-44D1-ADB6-968C2C33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5C23-CB48-49D1-9C27-F37413D8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F58F-4531-416E-B35D-C3400FB0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AAA1-9CA7-4329-8EBA-8CE400A5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DB6-55E3-4AEA-8894-E4D98F2F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784C-4A69-4A9C-A3BE-BFA0971D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46EA-034B-44F1-BE55-4C9177D3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266F-D102-445C-BEE3-60D0B50F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C93F-977B-4E46-93BE-27B4B502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46E2-4B41-48AD-A819-2891E15D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4EA-1D02-45DB-A1F6-39AE5DC0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EA8-CF48-4F23-955A-03730E36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EAC-CEE4-4721-BE26-E0E1330D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2D7-340C-436E-870B-D1C02246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FD9-40AA-486C-A753-F5905AF6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F27-8E4E-4446-9B6F-812C036F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E21-87D8-4520-A1AA-12087F73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DE46-76AD-4949-AE39-A07E4890F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AE9B-CED2-47D0-835B-E8B6F8680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You: Working with Young Childre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pter 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676520" y="5257800"/>
            <a:ext cx="6032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apted from “Working with Young Children” by Judy Her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eer Opportunities in Early Childho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nni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 pai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dergarten teac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rly childhood assistant and associate teac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 care teachers and directo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mily child care h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censing specialis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yground design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’s libraria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espeople of children’s produ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s educa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’s artis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nn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vides care in a child’s h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nannies live in the child’s hom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ise” the chil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 nannies come from other countri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 Pair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erson from a foreign country who lives with a family and performs tasks similar to those of a nan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exchange for weekly pay, room, board and transportation, the au pair provides child care and may do housewo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ndergarten Teacher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eded in public and private school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 child care centers hire kindergarten teacher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rly Childhood Assistant and Associate Teach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s support and assistance to the lead teacher in providing developmentally appropriate curriculum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ically an entry level po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y give experience needed to advance to the lead teacher po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ld Care Teachers and Director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er is responsible for planning curriculum and teaching child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rector is responsible for marketing the program, recruiting children, hiring and supervising staff, and managing the budge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mily Child Care Hom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care for children age 6 weeks to 12 yea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a child care provider to work from hom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09800" y="1828440"/>
            <a:ext cx="377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ten has longer hours of op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elike atmosp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 providers can also care for their own child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censing Specialist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mployed by the sta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ir role is to protect and promote the health, safety and welfare of children attending centers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09800" y="1752480"/>
            <a:ext cx="377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s visits to assigned cen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center following state licensing guidelines?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w many children are in facility?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is the adult-child ratio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is the size of the facility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is the quality of food service?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the appropriate curriculum being provided?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ilding safety, health practices, educational preparedness of staff and physical space are monitored as w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Career Opportun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ent educator – work with parents to help them learn parenting skil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ty recreation lea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ldren’s art, dance, music and sports instruct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cial work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09800" y="1828440"/>
            <a:ext cx="377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nsel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apis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trepreneur – a person who creates and runs their own busines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st common is a family child care hom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: consultant, store own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ucation and Training Needed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entry-level positions (i.e., playground supervisor, teacher’s aide) require a high school diplo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st require training and educational beyond high school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one is to obtain th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ild Development Associate (CDA) Credenti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 national credential that requires postsecondary courses in child care education and have demonstrated the ability to work with young childre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achers usually required to have a bachelor’s degree in ECE, child development or a closely related fiel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jobs require a graduate de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sulta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earch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rly childhood instructors and profess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state establishes its own qualifications for staff working in child care center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lifications depend on position desired and location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pter Vocabul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rly childho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kindergarten (PK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n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 pai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censing specialis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repreneu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ld Development Associate (CDA) Credentia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mentally appropriate practice (DA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ic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DA Histor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itiated in 1971 for the purpose of improving the quality of child c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was designed to assess and credential early care and education professionals based on performa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DA Eligibility Requir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5029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8 years old with a high school diplo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ademic ski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ed statement of ethical condu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-approved ce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st be the head caregiver for 8 or more children ages 3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children must be enrolled in program and two caregivers pres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more than 20% of children can have special nee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52280" y="190512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least 480 hours work experience with 3-5 year ol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0 clock hours divided among different program 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ld Development Associate Credential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etency Goals:  establish the framework for caregiver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are there?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ctional Areas describe the major tasks or functions must complete in order to carry out the competency goa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are there? 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eacher’s Responsibil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 developmentally appropriate curriculum throug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evelopmentally appropriate practi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set of guidelines that focus on the outcomes of learning activiti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d on the idea that children learn from pla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phasizes knowing children well and respecting th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eacher’s Responsi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e the environme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st encourage children to independently experiment, explore and manipul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 variety of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e Effectivel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itive communication will help you form and maintain a close relationship with childr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ourage communication with parents and caregi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 meaningful relationships with colleagu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eacher’s Responsibil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monstrate Team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as a team with your colleagues by respecting the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your cowork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lict resolution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e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s teachers work smart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prioriti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inguish between important and urgent matt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eacher’s Responsibil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te in Professional Organizatio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ep current in the fie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CC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EYC (National Association for the Education of Young Children) is the primary organization for the early childhood fiel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 ethical standard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thics are a guiding set of moral princip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ght vs. wro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eacher’s Responsibil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continue to lear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erenc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 how children grow and develo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think are characteristics of a successful teacher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acteristics of a Successful Teac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152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ndness for childre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child should fee understood and accep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part of their social development, children need to be taught that people and feelings are impor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ien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 children time to explore, solve problems and cre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 often learn through repet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early childhoo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vers the period from birth to nine years of ag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this time, growth is very rap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ld develops a sense of self, as well as language, cognitive, social, emotional, problem-solving and social skill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acteristics of a Successful Teac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pt others without prejudi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sensitive to both positive and negative feelings the children exp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iment children for their suc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 children understand feeling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tivate children to respect each oth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den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s you to relax in the classro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 by your decisions and children will accept them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acteristics of a Successful Teac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se of hum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 enjoy adults who laug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ve teacher = positive stud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s work more enjoy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sure to laugh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no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itm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constantly study to keep up with current developments in fi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for daily teaching is time consu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acteristics of a Successful Teac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onal Desi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have doub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need to feel that working with children is rewarding for yo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ysical and Mental Heal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t nutritious meal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plenty of sl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physically a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stress relie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pter 1 Review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 percentages of child care in the 1970s vs. toda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es in families that affect child c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efits of corporate childc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antages of early learning experi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able to describe 5 career opportunities in early childh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able to describe a family child care hom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igibility requirements for a C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DA functional areas vs. competency goal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pter 1 Re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 at least 3 responsibilities and 3 characteristics of a successful teache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 your vocabulary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pularity of early childhood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1970s, only 6% of children were cared for in child care cente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day, 67% participate in an early childhood progr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5% of the nation’s five-year-olds attend kindergarten programs for at least ½ the da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and Economic Chang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ous changes will affect the need for and structure of child care servi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changes include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loyers’ attitud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 attitud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al studi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efits to the econom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nges in Famil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amatic change in the past 25 yea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men are becoming more highly educ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ples are having fewer childr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ng adults are getting married later in lif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y families need a second paychec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men are demonstrating an increased commitment to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milies see the value of having children attend an early childhood progra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nges in Employers’ Attitud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porate/employer-sponsored child care is one of the fastest growing types of child c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providing some type of child care benefit, companies see an increase 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ruitm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a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9800" y="1828440"/>
            <a:ext cx="377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enteeism is redu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tter public rel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x benef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e of schedul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roved quality of workfor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nges in Education Attitud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s are becoming more aware of their children’s developmental nee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result, they are seeking quality environments that promote their children’s growth and develop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ies show children in full-day kindergarten programs do better academically and socially during the primary year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ucational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first 5 years of life are critical in develop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ildren who are involved in early learning experiences are more successful in school, as well as later in lif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ildren who have a good start are less likely to have behavioral problem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ss likely to be referred to special educ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rned better grad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graduated from high school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ording to research, many states are introducing prekindergarten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K refers to the full range of early childhood program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including school and home based child care, preschool, and Head Star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23:04:33Z</dcterms:created>
  <dc:creator>Eliss Herman</dc:creator>
  <dc:description/>
  <dc:language>en-US</dc:language>
  <cp:lastModifiedBy>Eliss Herman</cp:lastModifiedBy>
  <dcterms:modified xsi:type="dcterms:W3CDTF">2013-08-12T18:47:22Z</dcterms:modified>
  <cp:revision>8</cp:revision>
  <dc:subject/>
  <dc:title>You: Working with Young Children</dc:title>
</cp:coreProperties>
</file>